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6459-A302-4457-977F-97934CA4C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0C30-E939-485A-9C35-498DFA2E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29E956-AD27-4B44-A88B-FC868C0D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B6DFFD-0EE9-4BA2-8E78-BF8E7F57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56131A-16CC-45E4-83EE-3C40684A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CA89E2-5BD8-42CC-BC01-03593F4E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8D99F3-9D1C-4F3F-9F9B-19896D01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6A7874-D248-40DA-81CA-746F905D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9C8CE2-9E4D-4295-AEB2-E61A2ABD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37BA1A-1606-479D-BAC4-887E4A1E9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2FC51-6B99-44F7-9B77-1BD69FD72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58E380-E5EB-44CB-8069-859A1594E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508D-BFAB-44AA-A47D-04A8AA574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A44558-8144-4E60-9C3A-6A651D53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0ADFE8-3B7E-438B-9878-51F51226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C0F745-FDB6-4C4A-BE6C-313AEDD7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18C387-6F09-4D3D-BA0E-6A7D3BD8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B4E052-716A-40D8-B81A-7C1E4B01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DACB56-0EBF-4560-8AEB-0E136FD1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C1A840-25D2-4B1B-8BD0-AD3AE30A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51778A-9EE2-45AC-BAEF-A6A325F7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9141B7-5ACE-4BC8-AF0A-D446C962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1E829A-3D61-4937-B0BC-D351FF3E3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C07B-838D-48A4-96E8-D4800DB75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7128CF-8EEA-48A2-8468-87188604F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840F4-3E70-47CA-8B56-93093A9A0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D5BE1A-A7A7-44A6-8029-50931E4F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24ABC-DDAA-4F77-8244-C5D8E6B0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BE2D5A-D878-464C-9C20-8748BBDB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ED505-E7DE-4798-AFB1-85D2FAAA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7F2A0C-1A9E-4B02-8E76-57775AAE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AACC94-F5BD-4D53-807A-AFAF4900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C566D3-54D0-4C76-91CF-B2840E3B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F433E-5E39-47E4-A891-C28AB59D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03DB-3F46-4D51-8D14-2B9050D6E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42AB57-CAB2-4BEB-8CEA-CCAE62C0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EBBEB-A33D-4FF3-B56D-71AB91BEE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D023E-6699-4260-954C-471B162A5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3107C3-734D-4E47-A586-0A74C93BA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E458E5-A98F-4499-A571-BAAD78E1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27E7A9-2640-4AEE-A299-58DDD32E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E55C6C-7460-4553-B821-7ECD483B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87EBDA-41C4-4296-8C55-1C95A627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092292-7E4F-4319-A430-EE5D9485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1E1A91-A69F-4425-8B2A-35125A93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321E-8DA9-4E1F-81B7-6699D075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F3ABAF-D2F3-4C04-989F-A6C74441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31A520-4EA3-48D4-A5FE-7E824B25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31D1F9-FBC3-4145-8A1F-1BEDEDF0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B36FB1-9C06-4560-AA42-6BB936D62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2A5888-ABBD-4626-BD68-33BBFBEAB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3D16B6-3F7A-4C60-8A0A-DDAFF6D19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5B53EE-20DD-460E-9AF7-7C9F3974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FE3E02-CEB9-4DC5-BFC0-9CE4651C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E3AD9F-44BA-45FA-A2BD-3D46E422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ED9CAC-6C3D-4BB3-B1C7-6A87CA15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A79E-2B77-4CC2-88B7-BB75AD4F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3B3ED4-F88B-447B-A69B-4B824C50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2DCCEA-4922-4720-B1EE-20D17102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0A74CD-28F2-4501-9730-43141B38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C8230C-5C1E-431F-9FB6-2BED9089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84765A-E2A7-4760-90E0-59901800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8CC680-5A30-4CB6-A4F5-133D0FE5D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BFBCEB-AA45-43A5-9124-548F84D69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97D36A-10DF-42DA-A652-9A3E7B616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4B3FCC-6A59-493A-94FF-1296FD9B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952F40-066B-45B7-AE14-F25C1DC9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9680A-7176-4B80-858F-39999F65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7FE93D-6A3A-4C14-9F03-93DA9F7A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FDBA2C-C143-4F58-8086-46419766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C5B933-B761-4274-9DFC-1987389D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4D23B7-1C1C-4F43-AAF7-126DA104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AC0B7F-F8AB-4341-B5AC-3326BBAA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2CD4DF-F3A5-4FA9-8EBF-9E6818E5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0B1609-3538-4B71-8CFF-8AAF3568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14FEDF-1AA7-4459-95EF-219D44F1F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D9EB2E-4F16-4AB7-8AF4-D2EFA7CF8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6BBC1A-96EA-442A-8F73-A601F72DC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C687-40CD-4D9E-843F-E4330634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C6B0DD-5579-4632-9CE6-927A76F9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43DEBE-A02F-433D-B538-F4CC5536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B398A2-B031-4B33-B483-0300320D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55F084-2687-4097-A00D-63D0C5A6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9AEA85-DAC5-456E-A8AC-7FAD72BF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F754C5-1F84-4E87-BE23-7E3C3283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1E886C-073E-4535-B95A-2A1043D5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068028-BE8F-4EC5-8C4B-8ABC96AA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B24B38-204E-417D-A983-4AA7CCE9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06A133-A3AD-4F35-86A2-45542BC9C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6B1F-5BA9-46F2-B6BC-9E664D89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D1CA98-D743-467F-91FB-7D080384C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A3C210-FC2F-4EA1-A717-67E9C14D8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8573D8-1DCC-4A2D-B09F-A448B648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BF080C-A643-4BAC-AC84-5282F0ED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3C47D0-E534-42A1-AEEC-EE75C038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07F094-0CEF-4F9F-A6E0-EFB0E745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5B8374-AC8B-4CD9-A649-A99E9557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A1EA8B-EB99-4FC4-80F7-89A27AD5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136C97-9D9A-4E8E-9B34-EFD6824E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9C360E-9647-460C-AAFC-B8D861A4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0804-2D2F-42B0-925F-2CA850F4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0F0D08-CB93-4A20-B17C-378D96C7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5D4964-39BE-4412-8CA6-2E0B37F38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810107-F54E-4C50-BC14-7350FBF7F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F6241E-3E64-4DD7-B0A4-BBA048E3A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964D95-35D2-4FB8-A6B7-79BBB1E0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082BA5-075B-45FC-A311-570633F6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602BD8-2C71-409C-AE08-D9FA9A48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E93A31-D6C3-408A-AD5A-9AA6E9E4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5D4AC1-7313-4C9B-8C52-BCEF691B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2EF2B2-A937-47A0-85DD-BB952961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05BA-15BE-4CCE-883B-81E936A6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48CB-2009-4A2A-84D2-AA4F7BF5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FDF7A3-561A-4AEF-AA00-01EEB206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E78C40-71E1-412E-9958-E86C7A72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4C2667-900F-492D-A5BE-0B999343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7A94A5-AE2A-452D-8299-CBC98BB57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D8D2D2-30B7-41C7-AFAA-19572ED55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3A5080-BB4D-422C-B7BE-15C478A7A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1F1284-75B1-426A-A0F7-C163E047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492FB5-4697-49C1-81B7-F3B681E3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3D83DD-F8CF-4E04-9DF9-F68A8247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1A2196-FA6C-48E7-9CAA-A4A87989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E0E1-51D4-4FB4-A289-A130364A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CB772B-BEC2-47BF-9703-DD1FE8D0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1C42A5-0FBB-4E12-817D-3FBAF577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FE2F84-E74F-4F08-A4E4-F469B9A6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CCBF6E-7838-4B44-AE29-9FE0DD2E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B3C78C-7007-4D8F-A40A-B6590227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184D39-2D51-40E2-8663-7AD8B6CE9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26C5FA-D25D-4CDF-A7AA-793865A9E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59D25A-51C9-4A72-86F6-0D3662374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E84719-5951-4555-BD03-52F6786E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DF3861-F93B-4FCB-93A5-9939EB96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E033-3641-487F-9CB7-48CBA39D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077CC7-2224-4BC3-9667-F5EC48FA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784740-E838-4DCB-A6E9-34FF8F65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6BA772-5F1D-43B9-96E8-2139A216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EC00A8-6F4A-4076-8165-16EA34FA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7EF6FF-D419-410B-857B-2CF160BD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4A6DE5-8949-425D-8888-E3CA78BE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598794-F4F7-45D0-9E65-A96B76FD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A2DD6A-4F92-41CF-8554-F9A69B472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C22CD0-05FF-417C-BF9C-A8795C8EE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CB2F9F-8883-4050-B1A8-50F3FBBCE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A12BD-FB02-475D-B852-E69F1817B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658792-F77C-4852-B66A-FAFAE1F3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963074-4029-4C6D-B1CD-6A6AC811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DED712-30E7-44B5-9079-8D1715E4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D5FEFE-46C8-4BF1-99D2-46B745D7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8100EA-A444-4374-986B-260E5175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B5F97F-857E-4B05-B613-E61A58C1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AF1ADE-A504-42E3-ABB2-F337F156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6B8A10-BDD8-4934-B946-48A95770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5DDCDD-B435-43A6-B297-5531CD17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5CD568-A341-493E-949F-2F9A8C772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483A-D974-475F-B124-145515F81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B28592-A388-4D95-9023-B13C54C9E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3F8010-3288-4111-B022-6772EF62F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8F0F97-55D7-4FE4-BF93-2B01EE22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2C79B6-7D4C-4BAE-8386-7CA8AADC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D53C89-5E5A-4185-A725-21D60FA9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18264B-2CEF-431A-82AA-F22D23DA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3F9E8B-1062-4FAD-8B3E-FDD6ED5B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6841F0-6DDB-46D5-B7D7-B9584471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68C89C-72F8-4D7C-9E3C-46B9AF3E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14D848-0BB2-4752-9C3D-BB609FD6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2FD79-023F-49F3-92C6-8F2654C19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4684EC-59AF-4A23-A967-DCA46E92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59DB6A-CC52-481D-AFE3-A10690A3E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804FD8-C0C5-4122-B395-90833F6DD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EE813-EE43-4328-94B2-2267E845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9D31D-C544-4934-8A56-FCBE47D4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0F116-5DED-4E44-ADE1-3E5C0169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D1375-7A34-43B9-BBDB-B2315988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9CEA-3F36-4AE2-A9A9-4245F166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FA88B-ED51-4665-AAE1-660CF969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BCF20-9A1A-44AA-9666-AD4CB4C8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A1311-958A-4CCF-82C5-92CD4332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4E1B8-0DA0-4C65-AFF7-929E9715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C3226-5990-49AA-8798-AED3E82D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C03DE-955C-47D7-A964-102672112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2BCC0-46C6-4417-B13A-89BA7B6AF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CA92A-D8A8-4E5D-BCDF-21118307D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CF506-ECAF-4D5E-ACEA-E7A4BED7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7A450-694D-4E94-AB87-14CDFB93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265B-4B3C-4416-81DF-99800CA8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289AA-0A11-4442-AEFC-DBC71D31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AE84E-1C66-40F2-85F6-E6C41BB7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31683-1CE6-4D42-A17D-5DFB60CA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D2DD2-A763-41F6-8671-6D3A36B7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99AAE-0FB8-45A5-BE11-E6269279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9F5B8-F50F-4D5E-8F4B-EB77E4FA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00F91-9F76-4735-8A49-61D16B66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95BFC-10B6-4F5E-B536-9D0494EE8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02CDC-F12E-4D0B-B03C-087AA6363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8F01C-5803-468D-BDC7-EDE6FDD74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9689-823E-4C12-B885-B3686C2B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00786-A1D3-4716-834C-B9888F77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A0DF1-B4D2-4CB2-B8A1-161C2369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8EFB7-ED41-4F1A-9FD0-C6EE094E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DD2A9-0F0E-4AA6-9F30-DD78E2D8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0E349-D878-4A55-B3AD-9BF62B1F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1BE36-226A-4973-A729-29511374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00C34-4C50-4E5D-9AF2-D69EF3AF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73231-3EDF-44C6-9F3B-78D4DE15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0631F-07A8-4C18-B380-DABCC7C3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94D6A-564C-4827-BDA3-CF1864923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8D38-6CC3-41F2-886F-316E74F9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B8CEA-24D3-48F1-BC46-A614B7B54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9B0AA-ECEC-446C-88A9-2CC3BE660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F9B1E-14DC-48B3-B174-7CF823B4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10E90-DF10-4D22-AE7E-F4E2C727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1AE64-4924-4881-9E85-19CA2FBF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FD85C-2F13-479E-A8A0-1B1B9E3C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1DE1A-5A17-41D8-A78F-F4A474CF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E6F1F-BD35-47A7-AD3B-96BBBD0B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B1708-C850-4D95-9097-5141C86A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21281-1FAC-474E-87D6-9F8C0360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6337-1473-4261-8F9A-67076B2F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688CE-DA90-488D-A17A-581BA0D7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3C97B-ADD3-49ED-BF14-15D761658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0F092-7A47-46C6-AFEC-C2A8CE05E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EAE31-64F1-433C-81D8-820DA539E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623C7-252D-4DED-BCB9-78CC2313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4323C-A3BC-4C4A-A8F0-FFA7D944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4DB74-1AEC-4954-8B22-B799E41E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217CF-9463-4972-A8E5-D8F295F4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3D07A-6573-4B91-8E09-38A6AF22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D7D6E-E37E-44D4-AC6A-CE3ED295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4AF3-620D-41BD-9B84-205971E8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BD253-539D-47FE-8764-DE30BDC1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D16D5-CA48-4782-A1D3-89A9C9C0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F297D-9CC6-460B-B5EB-0FFE0884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78F9C-85AB-4D1F-A8CE-92162550E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BD0A5-3730-44C1-9416-76B70CD98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0F1B1-15D3-498C-BE55-F8A81F6CE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4C215-AE80-455B-9CF3-0B9BAE31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5A909-23D6-4E68-B05C-3A8A4530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24EB2-9AE6-4975-8D87-01FF7851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3CCFE-3C3C-4FFB-8915-D16343C9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58C4-B32B-4801-BD6A-E4D59A86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AD190-E5AE-4215-9E66-90487C5D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4F9AE-E006-4060-BD7E-6F5DFAB9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7F7D2-9754-4BE3-81CB-F8E2BF50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624B0-58F7-494C-BC12-821F136E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26829-1934-4BED-BE13-C8358F36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2D9FC-5F2A-44FE-8CBF-38B54748C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DFBBB-5330-40FC-B724-56E70DCDD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291AD9-CBE1-4DE4-AB1F-CE1887209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D40B84-B501-49F9-BDD1-0634E56C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1B11D7-9B2D-44D6-958C-D043E419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DCC9-4A3E-4F73-A4CF-DE4C628D0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1A91-F6EB-4023-932B-AE8865FD7B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DADA-271B-4C51-B148-93D12B1071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0A46-7ED3-42E1-AFF3-83BCFABF98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95EB-30E6-4AFA-8D56-F9891B6CE6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5525-2F7A-462E-998E-DFF861BA06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095D-3573-48AC-B199-6A0844F4C7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C22A-AFC7-420E-B817-655A6A754C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A3DE-8927-4111-A0E5-3FA025225B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EA9B-75FA-46EF-9626-A5FF282B83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6F4B-ABE9-4D4C-992C-61BAF9E754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A404-C25C-4F5C-8E9B-528300E018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2A7E-1E9D-40C9-A040-4D1E2CAA8E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424C-86D0-4F8B-8A68-EF5E05E76F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FF19-4947-42C2-8AA7-5DE76C3DE6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A325-8D23-49A0-99C3-0A230C404B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4168-6D92-435A-B0E2-0183BDE29D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7110-18B9-4D9E-A39F-B038507B36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23D1-B3EA-4BF8-90D4-8286A0BC29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2F96-16E3-489E-920C-9090E920CC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A4B3-4690-4793-941A-C8986C140C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3E62-258A-41EF-9A5B-091A005101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72F9-5885-411C-BC31-D117BAB8B0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2CEB-56C8-4DAB-908E-B6137325B9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C42E-A5D8-4885-A8D4-BAE9228F3C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F151-597B-41BD-AE6B-708981CA46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2D71-3352-4458-B478-AB5127B167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14A4-92E4-42DB-B9C3-CAE1D3BF1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0B54-AB41-49A2-B439-F4D7F179FC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5FB2-8DFD-4DEB-BE82-CBE5565A46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FAB9-8D0A-49EE-BCB0-C979CAB33A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D312-3DF9-477C-8669-1A43903E68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E948-CF3B-4BBA-ABDA-37C8ED476B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7C7C-62E6-43EA-91D9-5A54A1130F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C8EB-5CAD-413B-94FD-9490A85FC2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07F2-AF89-4A69-A5F0-96A90480E9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A7AE-487A-4831-89D7-A9E21F8472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333A-17AB-48FC-AD71-32482FE681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D96E-93A1-4C6D-94F0-942888A126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71AB-6170-4045-973A-05FA9D586E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0" descr=""/>
          <p:cNvPicPr/>
          <p:nvPr/>
        </p:nvPicPr>
        <p:blipFill>
          <a:blip r:embed="rId1"/>
          <a:stretch/>
        </p:blipFill>
        <p:spPr>
          <a:xfrm>
            <a:off x="3967200" y="3157560"/>
            <a:ext cx="120960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Picture 2" descr=""/>
          <p:cNvPicPr/>
          <p:nvPr/>
        </p:nvPicPr>
        <p:blipFill>
          <a:blip r:embed="rId1"/>
          <a:stretch/>
        </p:blipFill>
        <p:spPr>
          <a:xfrm>
            <a:off x="457200" y="1547640"/>
            <a:ext cx="8229600" cy="3762720"/>
          </a:xfrm>
          <a:prstGeom prst="rect">
            <a:avLst/>
          </a:prstGeom>
          <a:ln w="0">
            <a:noFill/>
          </a:ln>
        </p:spPr>
      </p:pic>
      <p:sp>
        <p:nvSpPr>
          <p:cNvPr id="1057" name="矩形 2"/>
          <p:cNvSpPr/>
          <p:nvPr/>
        </p:nvSpPr>
        <p:spPr>
          <a:xfrm>
            <a:off x="1857240" y="2357280"/>
            <a:ext cx="3000600" cy="3510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3"/>
          <p:cNvSpPr/>
          <p:nvPr/>
        </p:nvSpPr>
        <p:spPr>
          <a:xfrm>
            <a:off x="3063960" y="4425840"/>
            <a:ext cx="857160" cy="320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442800" y="947880"/>
            <a:ext cx="825840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3" descr=""/>
          <p:cNvPicPr/>
          <p:nvPr/>
        </p:nvPicPr>
        <p:blipFill>
          <a:blip r:embed="rId1"/>
          <a:stretch/>
        </p:blipFill>
        <p:spPr>
          <a:xfrm>
            <a:off x="461880" y="747720"/>
            <a:ext cx="8220240" cy="5362560"/>
          </a:xfrm>
          <a:prstGeom prst="rect">
            <a:avLst/>
          </a:prstGeom>
          <a:ln w="0">
            <a:noFill/>
          </a:ln>
        </p:spPr>
      </p:pic>
      <p:sp>
        <p:nvSpPr>
          <p:cNvPr id="1025" name="矩形 3"/>
          <p:cNvSpPr/>
          <p:nvPr/>
        </p:nvSpPr>
        <p:spPr>
          <a:xfrm>
            <a:off x="1000080" y="3643200"/>
            <a:ext cx="5000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4"/>
          <p:cNvSpPr/>
          <p:nvPr/>
        </p:nvSpPr>
        <p:spPr>
          <a:xfrm>
            <a:off x="857160" y="442908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5"/>
          <p:cNvSpPr/>
          <p:nvPr/>
        </p:nvSpPr>
        <p:spPr>
          <a:xfrm>
            <a:off x="928800" y="5286240"/>
            <a:ext cx="5000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Picture 2" descr=""/>
          <p:cNvPicPr/>
          <p:nvPr/>
        </p:nvPicPr>
        <p:blipFill>
          <a:blip r:embed="rId1"/>
          <a:stretch/>
        </p:blipFill>
        <p:spPr>
          <a:xfrm>
            <a:off x="480960" y="1362240"/>
            <a:ext cx="8182080" cy="4133520"/>
          </a:xfrm>
          <a:prstGeom prst="rect">
            <a:avLst/>
          </a:prstGeom>
          <a:ln w="0">
            <a:noFill/>
          </a:ln>
        </p:spPr>
      </p:pic>
      <p:sp>
        <p:nvSpPr>
          <p:cNvPr id="1029" name="矩形 2"/>
          <p:cNvSpPr/>
          <p:nvPr/>
        </p:nvSpPr>
        <p:spPr>
          <a:xfrm>
            <a:off x="928800" y="1357200"/>
            <a:ext cx="5000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3"/>
          <p:cNvSpPr/>
          <p:nvPr/>
        </p:nvSpPr>
        <p:spPr>
          <a:xfrm>
            <a:off x="928800" y="178596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4"/>
          <p:cNvSpPr/>
          <p:nvPr/>
        </p:nvSpPr>
        <p:spPr>
          <a:xfrm>
            <a:off x="928800" y="271476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5"/>
          <p:cNvSpPr/>
          <p:nvPr/>
        </p:nvSpPr>
        <p:spPr>
          <a:xfrm>
            <a:off x="928800" y="342900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6"/>
          <p:cNvSpPr/>
          <p:nvPr/>
        </p:nvSpPr>
        <p:spPr>
          <a:xfrm>
            <a:off x="928800" y="385776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7"/>
          <p:cNvSpPr/>
          <p:nvPr/>
        </p:nvSpPr>
        <p:spPr>
          <a:xfrm>
            <a:off x="1000080" y="4643280"/>
            <a:ext cx="5000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8"/>
          <p:cNvSpPr/>
          <p:nvPr/>
        </p:nvSpPr>
        <p:spPr>
          <a:xfrm>
            <a:off x="928800" y="514368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Picture 2" descr=""/>
          <p:cNvPicPr/>
          <p:nvPr/>
        </p:nvPicPr>
        <p:blipFill>
          <a:blip r:embed="rId1"/>
          <a:stretch/>
        </p:blipFill>
        <p:spPr>
          <a:xfrm>
            <a:off x="438120" y="981000"/>
            <a:ext cx="82677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2" descr=""/>
          <p:cNvPicPr/>
          <p:nvPr/>
        </p:nvPicPr>
        <p:blipFill>
          <a:blip r:embed="rId1"/>
          <a:stretch/>
        </p:blipFill>
        <p:spPr>
          <a:xfrm>
            <a:off x="428760" y="928800"/>
            <a:ext cx="8353440" cy="33145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3" descr=""/>
          <p:cNvPicPr/>
          <p:nvPr/>
        </p:nvPicPr>
        <p:blipFill>
          <a:blip r:embed="rId2"/>
          <a:stretch/>
        </p:blipFill>
        <p:spPr>
          <a:xfrm>
            <a:off x="642960" y="4214880"/>
            <a:ext cx="6829560" cy="2095560"/>
          </a:xfrm>
          <a:prstGeom prst="rect">
            <a:avLst/>
          </a:prstGeom>
          <a:ln w="0">
            <a:noFill/>
          </a:ln>
        </p:spPr>
      </p:pic>
      <p:sp>
        <p:nvSpPr>
          <p:cNvPr id="1039" name="矩形 3"/>
          <p:cNvSpPr/>
          <p:nvPr/>
        </p:nvSpPr>
        <p:spPr>
          <a:xfrm>
            <a:off x="928800" y="221472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4"/>
          <p:cNvSpPr/>
          <p:nvPr/>
        </p:nvSpPr>
        <p:spPr>
          <a:xfrm>
            <a:off x="1071720" y="428616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Picture 2" descr=""/>
          <p:cNvPicPr/>
          <p:nvPr/>
        </p:nvPicPr>
        <p:blipFill>
          <a:blip r:embed="rId1"/>
          <a:stretch/>
        </p:blipFill>
        <p:spPr>
          <a:xfrm>
            <a:off x="500040" y="714240"/>
            <a:ext cx="8229600" cy="6143760"/>
          </a:xfrm>
          <a:prstGeom prst="rect">
            <a:avLst/>
          </a:prstGeom>
          <a:ln w="0">
            <a:noFill/>
          </a:ln>
        </p:spPr>
      </p:pic>
      <p:sp>
        <p:nvSpPr>
          <p:cNvPr id="1042" name="矩形 2"/>
          <p:cNvSpPr/>
          <p:nvPr/>
        </p:nvSpPr>
        <p:spPr>
          <a:xfrm>
            <a:off x="1000080" y="78588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3"/>
          <p:cNvSpPr/>
          <p:nvPr/>
        </p:nvSpPr>
        <p:spPr>
          <a:xfrm>
            <a:off x="1000080" y="278604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4"/>
          <p:cNvSpPr/>
          <p:nvPr/>
        </p:nvSpPr>
        <p:spPr>
          <a:xfrm>
            <a:off x="1000080" y="450072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Picture 2" descr=""/>
          <p:cNvPicPr/>
          <p:nvPr/>
        </p:nvPicPr>
        <p:blipFill>
          <a:blip r:embed="rId1"/>
          <a:stretch/>
        </p:blipFill>
        <p:spPr>
          <a:xfrm>
            <a:off x="500040" y="785880"/>
            <a:ext cx="8277120" cy="5753160"/>
          </a:xfrm>
          <a:prstGeom prst="rect">
            <a:avLst/>
          </a:prstGeom>
          <a:ln w="0">
            <a:noFill/>
          </a:ln>
        </p:spPr>
      </p:pic>
      <p:sp>
        <p:nvSpPr>
          <p:cNvPr id="1046" name="矩形 2"/>
          <p:cNvSpPr/>
          <p:nvPr/>
        </p:nvSpPr>
        <p:spPr>
          <a:xfrm>
            <a:off x="2357280" y="3228840"/>
            <a:ext cx="128592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3"/>
          <p:cNvSpPr/>
          <p:nvPr/>
        </p:nvSpPr>
        <p:spPr>
          <a:xfrm>
            <a:off x="2808360" y="4071960"/>
            <a:ext cx="1763640" cy="374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4"/>
          <p:cNvSpPr/>
          <p:nvPr/>
        </p:nvSpPr>
        <p:spPr>
          <a:xfrm>
            <a:off x="7072200" y="5715000"/>
            <a:ext cx="12859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2" descr=""/>
          <p:cNvPicPr/>
          <p:nvPr/>
        </p:nvPicPr>
        <p:blipFill>
          <a:blip r:embed="rId1"/>
          <a:stretch/>
        </p:blipFill>
        <p:spPr>
          <a:xfrm>
            <a:off x="495360" y="952560"/>
            <a:ext cx="8153280" cy="4952880"/>
          </a:xfrm>
          <a:prstGeom prst="rect">
            <a:avLst/>
          </a:prstGeom>
          <a:ln w="0">
            <a:noFill/>
          </a:ln>
        </p:spPr>
      </p:pic>
      <p:sp>
        <p:nvSpPr>
          <p:cNvPr id="1050" name="矩形 2"/>
          <p:cNvSpPr/>
          <p:nvPr/>
        </p:nvSpPr>
        <p:spPr>
          <a:xfrm>
            <a:off x="4429080" y="928800"/>
            <a:ext cx="17146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3"/>
          <p:cNvSpPr/>
          <p:nvPr/>
        </p:nvSpPr>
        <p:spPr>
          <a:xfrm>
            <a:off x="3286080" y="1785960"/>
            <a:ext cx="1285920" cy="320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4"/>
          <p:cNvSpPr/>
          <p:nvPr/>
        </p:nvSpPr>
        <p:spPr>
          <a:xfrm>
            <a:off x="7107120" y="2608200"/>
            <a:ext cx="1285920" cy="320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5"/>
          <p:cNvSpPr/>
          <p:nvPr/>
        </p:nvSpPr>
        <p:spPr>
          <a:xfrm>
            <a:off x="7358040" y="4254480"/>
            <a:ext cx="1285920" cy="320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6"/>
          <p:cNvSpPr/>
          <p:nvPr/>
        </p:nvSpPr>
        <p:spPr>
          <a:xfrm>
            <a:off x="500040" y="4665600"/>
            <a:ext cx="1031760" cy="320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7"/>
          <p:cNvSpPr/>
          <p:nvPr/>
        </p:nvSpPr>
        <p:spPr>
          <a:xfrm>
            <a:off x="5643720" y="5500800"/>
            <a:ext cx="1285560" cy="320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37:08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